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D91-A439-419C-A599-3A8CD38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DCF-5A6D-4002-B210-2A3EFA3C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A01-3930-4FD7-8821-9FE65A1F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CE2-ADD7-477E-A972-C9837D6F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287-C80F-45C7-9932-F7E924A7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266-D7D7-478F-8DAF-7892E97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4BD-1358-4421-9262-67F4298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E04-6877-4E87-8CC0-7BEE0CE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770-3121-4CF2-81BC-AADCC6C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1B9-A370-46CD-80F9-82BCCAC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8F9-1D26-4A19-A538-941082C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9F3-B5FF-466B-AF18-6FEF549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4FF-6CAD-463F-BD9B-973044D0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0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3519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Reference Clinical Element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keys seemed more appropriate for building “information mode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the Referenced Clinic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the “hasKey”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1004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18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sub-property hierarchy for “qualif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“Vital Signs” and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08T03:54:51Z</dcterms:modified>
  <cp:revision>61</cp:revision>
  <dc:subject/>
  <dc:title>Slide 1</dc:title>
</cp:coreProperties>
</file>